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19A-C1E2-433E-8979-88E2882C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2BD-7537-4063-BFA5-CAEB10DF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C86-4C27-46D5-A755-CC04C6B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320-C0E3-48FF-967F-8687AE5E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A5F-A76A-47AB-A8A3-E61138E6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192-BEAB-4D1D-AD0C-9E0DCD2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4D4-89B7-49C9-A8E1-C8364B5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33F-9685-49D3-AE86-E1590E01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152-B8BA-4517-A104-20B4D69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224-E86D-4144-AE7E-8CD82D27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B08-30D7-4BC2-814A-19A22A1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196-884F-416E-A21A-4070C65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9D1-2AE6-4DEC-9D5A-25D6CC4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60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DF7-A692-4211-B4BE-E83BB58E080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8000" y="6154560"/>
            <a:ext cx="1547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165720"/>
            <a:ext cx="3419640" cy="692280"/>
          </a:xfrm>
          <a:prstGeom prst="rect">
            <a:avLst/>
          </a:prstGeom>
          <a:solidFill>
            <a:srgbClr val="fa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7840" y="112536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New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3040" y="63086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5f6062"/>
                </a:solidFill>
                <a:latin typeface="Arial"/>
              </a:rPr>
              <a:t>Auckland RoadSens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080" y="324000"/>
            <a:ext cx="21952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Aim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Increase understanding on the directions of the new curriculum</a:t>
            </a:r>
            <a:br>
              <a:rPr sz="3200"/>
            </a:b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62"/>
                </a:solidFill>
                <a:latin typeface="Arial"/>
              </a:rPr>
              <a:t>Reflect on opportunities the new direction provides for road safety education</a:t>
            </a: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59" name="Picture 4" descr="Cover of Listener"/>
          <p:cNvPicPr/>
          <p:nvPr/>
        </p:nvPicPr>
        <p:blipFill>
          <a:blip r:embed="rId1"/>
          <a:stretch/>
        </p:blipFill>
        <p:spPr>
          <a:xfrm>
            <a:off x="3348000" y="1916280"/>
            <a:ext cx="27892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Curriculum</a:t>
            </a:r>
            <a:br>
              <a:rPr sz="4000"/>
            </a:b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Three Stage Process</a:t>
            </a:r>
            <a:endParaRPr b="1" lang="en-US" sz="4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National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– provides the framework &amp; directio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School – 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design and shape curriculum so teaching and learning is meaningful and beneficial to studen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lassroom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- make interpretations for particular interests, needs &amp; talents of individuals  &amp; groups of studen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The “Spirit” of Change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 - putting students at centre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Clarit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-  too important to leave to chance?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Importance of </a:t>
            </a: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edagog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- </a:t>
            </a: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how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students learn determines what they lear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onnecting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life in school with wider needs of communities, society and employer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articipator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processes – all voices important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RoadSense supporting</a:t>
            </a:r>
            <a:br>
              <a:rPr sz="3600"/>
            </a:b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the spirit of curriculum change</a:t>
            </a:r>
            <a:r>
              <a:rPr b="1" lang="en-NZ" sz="3600" spc="-1" strike="noStrike">
                <a:solidFill>
                  <a:srgbClr val="5f606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Designing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your curriculum -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including road safety education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Meaningful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beneficial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keeping children safe on and around road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Connecting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life in school with wider needs of community –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transport is an Auckland issue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6062"/>
                </a:solidFill>
                <a:latin typeface="Arial"/>
              </a:rPr>
              <a:t>Cont..</a:t>
            </a:r>
            <a:endParaRPr b="1" lang="en-US" sz="4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5f6062"/>
                </a:solidFill>
                <a:latin typeface="Arial"/>
              </a:rPr>
              <a:t>Pedagogy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practical training, stages of development,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 </a:t>
            </a:r>
            <a:r>
              <a:rPr b="0" i="1" lang="en-NZ" sz="2800" spc="-1" strike="noStrike">
                <a:solidFill>
                  <a:srgbClr val="5f6062"/>
                </a:solidFill>
                <a:latin typeface="Arial"/>
              </a:rPr>
              <a:t>making connections through inquiry and integration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RSE relevant to students’ live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Participatory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student committees, parent involvement, stakeholders –PEO and RSC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H &amp; PE</a:t>
            </a: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 learning area</a:t>
            </a:r>
            <a:r>
              <a:rPr b="0" i="1" lang="en-US" sz="2800" spc="-1" strike="noStrike">
                <a:solidFill>
                  <a:srgbClr val="5f6062"/>
                </a:solidFill>
                <a:latin typeface="Arial"/>
              </a:rPr>
              <a:t>– safety management , rights and responsibilitie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lideshow-12"/>
          <p:cNvPicPr/>
          <p:nvPr/>
        </p:nvPicPr>
        <p:blipFill>
          <a:blip r:embed="rId1"/>
          <a:srcRect l="2740" t="15345" r="5918" b="17472"/>
          <a:stretch/>
        </p:blipFill>
        <p:spPr>
          <a:xfrm>
            <a:off x="826920" y="1989000"/>
            <a:ext cx="7561440" cy="4172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40856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7080" y="189000"/>
            <a:ext cx="45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Values in the 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5f6062"/>
                </a:solidFill>
                <a:latin typeface="Arial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771640" y="2276640"/>
            <a:ext cx="10796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900000" y="2131920"/>
            <a:ext cx="2044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568600" cy="352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New Zealand Curriculum</a:t>
            </a:r>
            <a:br>
              <a:rPr sz="4000"/>
            </a:br>
            <a:r>
              <a:rPr b="1" lang="en-NZ" sz="4000" spc="-1" strike="noStrike">
                <a:solidFill>
                  <a:srgbClr val="5f6062"/>
                </a:solidFill>
                <a:latin typeface="Arial"/>
              </a:rPr>
              <a:t>Key Competencies</a:t>
            </a:r>
            <a:endParaRPr b="1" lang="en-US" sz="4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Using language, symbols 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and text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Managing self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Relating to others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5f6062"/>
                </a:solidFill>
                <a:latin typeface="Arial"/>
              </a:rPr>
              <a:t>Participating and contributing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3:19:58Z</dcterms:created>
  <dc:creator>Maryanne Mills</dc:creator>
  <dc:description/>
  <dc:language>en-US</dc:language>
  <cp:lastModifiedBy>chesna</cp:lastModifiedBy>
  <dcterms:modified xsi:type="dcterms:W3CDTF">2008-05-12T04:29:59Z</dcterms:modified>
  <cp:revision>45</cp:revision>
  <dc:subject/>
  <dc:title>Slide 1</dc:title>
</cp:coreProperties>
</file>